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36E-7F12-434B-8152-0D05C3B9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C17-6E9F-4C7C-A2AD-E2503B65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56A-149E-4E96-890A-9A409E56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DB6-8C8A-4D40-BBC5-7CAEF48C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D37-11A7-4D41-B19F-EA1F2668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A36-C150-498F-B3D3-1D27F244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F57-EC0F-4AF4-88FC-BD70B5DE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486-3FDD-4298-89C8-18A65567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954-3C18-4FD9-B426-3DBB37A4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FC2-96DE-43C4-9C77-EA83616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616-07FA-498D-925C-4D44CE73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AC9-6FDE-497F-A546-91552E2C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2D0B-7AF8-46D6-A0DF-7C28641F5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ewspapers24.com/images/cities/moscow.jpg&amp;imgrefurl=http://www.newspapers24.com/world-cities/moscow-newspapers/&amp;usg=__PLtpJYyPjcihXLqWf9xdF4CpORI=&amp;h=400&amp;w=300&amp;sz=31&amp;hl=en&amp;start=2&amp;um=1&amp;tbnid=TEJuydnW-1gBBM:&amp;tbnh=124&amp;tbnw=93&amp;prev=/images%3Fq%3Dmoscow%26um%3D1%26hl%3Den%26safe%3Dactive%26rls%3DIBMA,IBMA:2006-28,IBMA: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Trans-Siberian Railway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Emily, Katy, Patton, and Perri 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Departur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Mosc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t cost $621 per person to get on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Kristen ITC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class ticket al 4 of us rode fourt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We left at 8:00am August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Kristen ITC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Moscow time. We hadn't gotten used to the time change because it was 1:00 am on August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Kristen ITC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Huntsvill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82880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Day 1: Ekaterin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On day 1 we were on Ekateriburg. Emily was very depressed last night to find that there weren’t any showers on the t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We had just crossed over the beautiful Urals when we came across a major city called Ekaterinbu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is was where the Romanovs were assassin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is was a very charming city, the people were so 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318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Day 2: Novosibirs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On the second day we just got out of European Russia and entered Novosibir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Novosibirsk is the third largest city i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ts also the largest city in Siberia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200016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Day 3: Krasnoyar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is city was located on the Yenisey ri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t is the third largest city in Sib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 the cold war it was home of the  Krasnoyarsk northeast air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t had major death camps during world WW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197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Day 4: Irkut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We just entered Irkutsk, which is one of the major cities of Sib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is city is located east of Lake Baikal, and is on the Angara 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is city is also know as the heart of Siberia, because of it’s beauty. We definitely thought it was magnifi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Lake Baikal"/>
          <p:cNvPicPr/>
          <p:nvPr/>
        </p:nvPicPr>
        <p:blipFill>
          <a:blip r:embed="rId1"/>
          <a:stretch/>
        </p:blipFill>
        <p:spPr>
          <a:xfrm>
            <a:off x="5029200" y="1523880"/>
            <a:ext cx="3035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Day 6: Khabarovs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On day 6 we came into a Siberian town called Khabarovsk. We skipped Ulan Ude because we wanted to get to Vladivostok as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charming town has a beautiful view of the Amur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1908000"/>
            <a:ext cx="4038840" cy="30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Day 7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Arrival at Vladivost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city  ends of our trip on the Trans- Siberian railway. This is one of the only major cities in the pacific coast of Rus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8:41:56Z</dcterms:created>
  <dc:creator>KaitlynShoemake</dc:creator>
  <dc:description/>
  <dc:language>en-US</dc:language>
  <cp:lastModifiedBy>KaitlynShoemake</cp:lastModifiedBy>
  <dcterms:modified xsi:type="dcterms:W3CDTF">2008-11-25T19:01:22Z</dcterms:modified>
  <cp:revision>5</cp:revision>
  <dc:subject/>
  <dc:title>Trans-Siberian Railway Trip</dc:title>
</cp:coreProperties>
</file>